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DF4A-DC2B-48E5-81B7-863A1A7AC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2E79-09AC-455C-9B38-507CA970361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9B49-ADC8-4A11-AED7-4615306017B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292E-D239-4473-B82F-F7D9A7E3A7A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6CE8-9AAF-4041-8A4D-0A5515B28E6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F761-0A6C-44F7-99D1-9183D039400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C8A7-934B-4E14-B879-904B51ECE2C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F5B9-2D11-444C-B723-F118B6CF5FE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4F68-725D-442E-9181-B0E759A57C1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C8AF-737C-4007-AF6D-8665261B21A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185A-F3A1-4869-8784-500CE5F28C0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6754-FABD-42F6-A463-932A0100EE8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F897-C0B3-4D5A-A00A-E2D324A7134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1942-9B32-42EA-8220-7CB3C1D038D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1E8E-19A8-4BC5-AA87-B5753338BBE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4C9B-FF2C-4C35-84C2-7B62B065D0B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0B28-C7AD-490B-A071-778DD3BBBA0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2392-E306-4F5F-B0B2-EFAC553B264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26AF-AAE3-4A7A-BC62-A8161209EF6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500D-D3C6-4FD1-8810-60B887423DD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9702-F2A7-4261-AAB4-AA8A0E932AE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5571-8D2D-406D-AC12-15B98C991FC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3582-047D-4013-AEAA-4D2B0840366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399-58C0-4195-83BB-E5891B7A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360-E701-4665-8ECC-6E009756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713-032C-44A7-9E1A-1DF3BEAE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D45-3655-4EEC-9539-2572EA9C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6FCD-7C3C-49A8-95DC-C4C18F7D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29FE-D793-4CA7-A07B-5E632250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DA5A-1A5F-4575-AE8A-C3B369C0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D8C5-2401-4642-B56E-7D2E309F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602B-C7D8-4414-804B-EF944474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CDA0-BEEF-4C89-8E7C-29800367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7069-A46E-4DB1-A2DC-CB59CD42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28F-2AC3-4751-A6A4-5AC8B561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2CA1-C80D-4C88-9724-B4F92D53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49B0-E519-4E8A-A0CA-04330D9E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3487-4A71-4DE7-895B-29A6F54D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7F2A-7248-4059-A596-371DC3DC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AD82-80D4-4649-909B-AC5EE6C7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5DF-9878-43B8-BE7B-041F6DC1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87B-8784-4472-85F5-CBA1C8C5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7B7-8197-43B1-BFAA-8B8474BF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36C-AC82-4DA4-BFA1-0FF96848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E91D-B3F8-4DAA-BB6B-FF739894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B65-8109-4FCE-9CC1-84BC6139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501-FD29-44D8-90A3-DC90EC6A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E0C2-DBD9-438D-BEA7-0C29AC185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424E-37C8-44C4-9B20-5DC8CB7A123C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yucky.discovery.com/flash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actmonster.com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kids.gov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mathsdictionaryforkids.com/dictionary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childrenslibrary.org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Motivating Young Readers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in Your Classroom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_x0017_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External Motivation?</a:t>
            </a: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 certain amount = prize!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uild on their interests with similar genr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cial acceptance;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park interest with ANY topic!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cial interaction – get involved with others who like reading  - they learn through model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 get to share what you read or writ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Vary the group size – large or small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insic Motivation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llow choice in what to read and how to respond and with whom they interact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sk them about their likes and dislikes (especially about reading) **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odel excitement/passion - give a booktalk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each students HOW to choose book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terdisciplinary connection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should you know about the differences in motivations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ANGER: When students are rewarded for completing tasks, intrinsic motivations decrease </a:t>
            </a: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(Cameron &amp; Pierce, 1994)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Decreases in engagement time and attitudes toward reading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ho were rewarded LESS during free time read MORE (they attributed the cause of their reading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nternal factor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like interest &amp; curiosit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ho were rewarded MORE during free time read LESS (they attributed reading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ternal factor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like points, grades, &amp; sticker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should you care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rinsic motivations are imperative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ifelong, voluntary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rinsic motivations are vital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higher-order strategy developmen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eads to deeper meaning-mak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ernal metacognitive monitoring, clarifying, and reflect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therwise, you have “Fake” readers! 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Kelly &amp; Clausen-Grace, 2008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makes student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ant to read?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Worthy, 2002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vid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ngaging instru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 everyday excitement about book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ing for enjoy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hoice and variet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in reading material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ach students how to choose their own book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erest Inventories (see examples in handou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John Guthrie (Concept Oriented Reading Instruction) CORI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TIVA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cces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matic Rea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levan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spect, safety, clarity, helpfu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434340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T MOTIVA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ilure &amp; no feedback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ragmented topic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 control over choi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ard to relate t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nly independent rea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ear, unimportance, unwillingness to scaffol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etting up classroom routines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Chapter 5, p. 60-61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vide variety and choice; self-sele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courage social interact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o points to “hold accountable”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 students select books with Booktalks and 5 finger tes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trategy conferences: (coaching, monitoring, and facilitating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ort response log (p. 72) -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’m wondering…I can see a clear picture of…I made a connection to…I was confused when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easuring Young Children’s Reading Motiv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did the authors of your two readings learn about literacy motivation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ading - Interest Inventori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see handout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lementary Reading Attitude Surve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McKenna &amp; Kear, 1990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elp plan classroom librar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uage movement from beginning - middle - end of the school year (an increase of 5 or more points on subsections; 7-8 points on total score reflects growth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easuring Young Children’s Reading Motiv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tivation to Read Profil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(Gambrell et al, 1996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amines self-concept for reading and value of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The Reader Self-Perception Scal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(Henk &amp; Melnick, 1995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vise ways to enhance children’s self-esteem in reading and to increase their motivation to rea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Online Reading Locations to Motivate Young Reader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66320" y="419112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re’s TONS of informational text at a reading level kids can enjoy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Compare and contrast intrinsic and extrinsic literacy motivations and their connection to classroom culture and literacy instruction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Identify several ways to learn more about your students’ literacy motivations in ways that can guide instruction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Pictur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11280"/>
            <a:ext cx="883944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36" name="Picture 4" descr="Picture 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28600"/>
            <a:ext cx="792504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39" name="Picture 4" descr="Picture 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876312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42" name="Picture 1030" descr="Picture 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3840" y="411120"/>
            <a:ext cx="88948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45" name="Picture 4" descr="Picture 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430200"/>
            <a:ext cx="883944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are and contrast intrinsic and extrinsic literacy motivations and their connection to classroom culture and literacy instruct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dentify several ways to learn more about your students’ literacy motivations in ways that can guide instru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NRE: Chapter 3 - Picture Book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RATEGY: Chapter 5 - Predic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Next week - Exploring Picture Books and Embedded Strategy Instruction (IN THE CURRICULUM LIBRARY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insic Motiv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vide lots of time for indep.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 readers sort out what types of books they like and label the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Variety: old/new, different format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nces to share with their pe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re read-aloud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ow enthusiasm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lan for activities that go along with book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trinsic Motiv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ook logs with different genr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ccelerated Reader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insic Motivation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elp set personal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aired reading – peer reading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Keep modeling – they should keep doing it!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 read-alouds with harder books – and easier book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is literacy motivation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The reasons, purposes, and goals for reading and writing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They are multidimensional (many levels and layers) and diverse (many reason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 you like to read?  Write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re you good at reading? Writing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do you read? What do you write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hy do you read? Why do you write?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_x0017_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External Motivation?</a:t>
            </a: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ole play /drama to spark students’ interes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play books - talk about stori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licit a personal response (alternative to avoid writing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 up a reward system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 up a fun place to read (comfortable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a candy drawer after explain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eep a reading log - pages read, short summary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etition/reward/punishmen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insic Motivation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elp set personal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aired reading – peer reading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Keep modeling – they should keep doing it!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 read-alouds with harder books – and easier book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ypes of motiv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Intrinsic motivation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oals that are internal to the learner and guided by personal interests and private experienc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xtrinsic motivation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oals that originate outside the learner (often guided by parents and/or teachers) - guided by points, stars, external reward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609480" y="4114800"/>
            <a:ext cx="7620120" cy="2064600"/>
          </a:xfrm>
          <a:prstGeom prst="rect">
            <a:avLst/>
          </a:prstGeom>
          <a:solidFill>
            <a:srgbClr val="ffdc4c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XTRINSIC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9480" y="2093760"/>
            <a:ext cx="7620120" cy="2064600"/>
          </a:xfrm>
          <a:prstGeom prst="rect">
            <a:avLst/>
          </a:prstGeom>
          <a:solidFill>
            <a:srgbClr val="009999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INTRINSIC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ight distinct motivation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or literacy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Sweet &amp; Guthrie, 1996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volve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uriosit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llen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liance motiv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cogni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ork Avoidanc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John Guthrie (Concept Oriented Reading Instruction) CORI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TIVA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cces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matic Rea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levan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spect, safety, clarity, helpfu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Content Placeholder 2"/>
          <p:cNvSpPr/>
          <p:nvPr/>
        </p:nvSpPr>
        <p:spPr>
          <a:xfrm>
            <a:off x="434340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T MOTIVA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ilure &amp; no feedback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ragmented topic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 control over choi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ard to relate t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nly independent rea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ear, unimportance, unwillingness to scaffol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Group Activit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eveloping Motivated, Lifelong Readers In Your Classroom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can teachers help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5 minutes in small group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5 minutes as a whole group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_x0017_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External Motivation?</a:t>
            </a: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insic Motivation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4:24:31Z</dcterms:created>
  <dc:creator>Julie Coiro</dc:creator>
  <dc:description/>
  <dc:language>en-US</dc:language>
  <cp:lastModifiedBy>Julie Coiro</cp:lastModifiedBy>
  <dcterms:modified xsi:type="dcterms:W3CDTF">2010-09-23T14:37:45Z</dcterms:modified>
  <cp:revision>123</cp:revision>
  <dc:subject/>
  <dc:title>Metacognitive Strategy Instruction to Enhance Reading Comprehension</dc:title>
</cp:coreProperties>
</file>